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FAE-42D1-420F-8C08-DF37AADA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A3E-C193-4510-8BAD-60F0F290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61C-1548-4C6F-B79F-684263D9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326-3E81-46F8-A5AF-191F140E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1A3-F605-48F4-9298-A832662C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D26-514A-488C-A704-E5B8A8A9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D04-257C-44D5-AECC-3A262629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4CF-50EE-48EB-B072-A6DFB461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6B0-9202-4A2B-A42C-217A1D98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45C-6307-43A1-AB14-2E4FED34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338-FB17-4FD9-A623-4026FF11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C30-6B24-4A47-88D1-012C2C4B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282D-0D87-4DE2-8B8B-8D7B9F073F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I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715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ρχεται ὁ Ἰησους και λαμβανει τον ἀρτ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ὁ ὀχλος ἠρχετο παλιν παρα την θαλασσαν προς αὐτον, και ἐδιδασκεν αὐτου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πο τοτε ἠρξατο ὁ Ἰησους κηρυσσειν και λεγειν∙ Μετανοειτε∙ προσερχεται ἡ βασιλεια των οὐραν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λεγεν ἐν παραβολῃ αὐτοις∙ Δει παντοτε προσευχεσθα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ὁ ὀχλος ἐζητουν ἁπτεσθαι αὐτου∙ σημεια ἐξουσιας παρ’ αὐτου ἐξηρχετ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Ἰωαννης ἐσται μεγας ἐνωπιον του κυριου ὡς ὁ Ἠλιας∙ ἀλλ’ ὁ Ἡρῳδης πονηρ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71524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ελλει ὁ υἱος του ἀνθρωπου ἐρχεσθαι ἐν τῃ δοξῃ του θεου μετα των ἀγγελων αὐτου, και τοτε δεξεται ἑκαστος κατα την ζωην αὐτ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λεγεν προς τους μαθητας∙ Εἰ θελετε ὀπισω του υἱου του ἀνθρωπου ἐρχεσθαι, ἀρνησασθε τον Σαταναν και ἀκολουθειτε τῳ κυριῳ καθ’ ἡμερα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house of Judah prayed, ‘Lord, rescue Israel from Egypt!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ijah was a great proph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were going away from the synagogue when we were going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arnabas and Paul were proclaiming the good news on the road from Jerusalem with the faithful dis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0160" y="1300320"/>
            <a:ext cx="89438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ἱ προφηται ἐκηρυξαν∙ Ἐκ της καρδιας ἐξερχεται πονηρα και ἀγαθ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ει διερχεσθαι δια της ἐρημου συν τοις στρατιωτα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ἡ ἀγαπη κακον οὐκ ἐργαζεται∙ ἡ μεγαλη ἐντολη ἐστιν ἀγαπ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σπαζονται ἐν κυριῳ Βαρναβας και Ἰουδας οἱ μαθηται τας ἐκκλησιας της Ἰερουσαλη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λεγει προς τον ἀγγελον∙ Πως ἐσται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τε ἠμην τεκνον, ἐλαλουν ὡς τεκνον, ἐλογιζομην ὡς τεκν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14200" y="1714680"/>
            <a:ext cx="871560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λλα ἐρχεται ὡρα και νυν ἐστιν, ὁτε οἱ μαθηται χαρᾳ προσκυνησουσιν τῳ κυριῳ, ὡς αὐτους ζητει και προσκαλειται ὁ θε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ῥυσῃ ἀνθρωπον ἁμαρτιας ἐκ του θανατου του αἰωνιου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 was a brother and a disci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oldiers of Herod are passing on the r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 you (pl.) wish to go into church or to be alo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cause of Herod, Joseph and Mary were going along the sea on the road to Egypt with the child Jes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42960" y="1571760"/>
            <a:ext cx="792972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k 4.1-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ὶ πάλιν ἤρξατο διδάσκειν παρὰ τὴν θάλασσαν∙ καὶ συνάγεται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t was gathered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ρὸς αὐτὸν ὄχλος πλεῖστος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very large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, ὥστε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with the result that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αὐτὸν εἰς πλοῖον ἐμβάντα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getting in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καθῆσθαι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at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ν τῇ θαλάσσῃ, καὶ πᾶς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ὄχλος πρὸς τὴν θάλασσαν ἐπὶ τῆς γῆς ἦσαν. 2 καὶ ἐδίδασκεν αὐτοὺς ἐν παραβολαῖς πολλὰ καὶ ἔλεγεν αὐτοῖς ἐν τῇ διδαχῇ 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eaching, instruction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αὐτοῦ, ...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2:20:43Z</dcterms:created>
  <dc:creator>Sarah</dc:creator>
  <dc:description/>
  <dc:language>en-US</dc:language>
  <cp:lastModifiedBy>Sarah</cp:lastModifiedBy>
  <dcterms:modified xsi:type="dcterms:W3CDTF">2009-07-09T18:17:40Z</dcterms:modified>
  <cp:revision>21</cp:revision>
  <dc:subject/>
  <dc:title>Slide 1</dc:title>
</cp:coreProperties>
</file>